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DA9A-9A39-4F54-9631-1E393B491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EB6B-C74D-45DD-A869-D453D440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F89F-2DF5-41C3-9098-B3557E647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B9B5-DDA1-4606-A91A-20CC212D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2DC8-6B8B-4789-95B5-27C31E13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0BDB-F983-4E3A-9339-BE70B05C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A31A-52B3-43A6-9DEC-22C3B985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41E3-8A82-4826-A807-EADEF78C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7F68-9B20-434D-BAE4-32B45583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1FE7-2945-4C9C-AB03-51B427C2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AD31-C3DE-4574-B042-016ED5C3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2E19-E27A-40B3-95E4-B355A802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A003-2E76-499E-926A-79168CFB7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76720" y="2666880"/>
            <a:ext cx="22860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Child Left Beh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72200" y="2743200"/>
            <a:ext cx="14479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1676520"/>
            <a:ext cx="17524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rehensive Instr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 flipV="1">
            <a:off x="2666520" y="220932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3657600"/>
            <a:ext cx="15242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ducation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590920" y="365760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3657600"/>
            <a:ext cx="129564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hievement T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91520" y="3657600"/>
            <a:ext cx="14475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udent Achiev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43400" y="4572000"/>
            <a:ext cx="9907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4495680"/>
            <a:ext cx="14479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Involv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5486400" y="297180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371600"/>
            <a:ext cx="167652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equate Yearly Prog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724280" y="19810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5000" y="190512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400800" y="32767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467480" y="2133720"/>
            <a:ext cx="114300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acher Tr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38862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391520" y="25146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7391160" y="3200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0100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1800" y="5935680"/>
            <a:ext cx="736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54100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arch ques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ow significant is accountability in the No Child Left Behind Progra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arch phrase: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no child left behind AND accoun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17:18:47Z</dcterms:created>
  <dc:creator> Robert B. Niedbala</dc:creator>
  <dc:description/>
  <dc:language>en-US</dc:language>
  <cp:lastModifiedBy> Robert B. Niedbala</cp:lastModifiedBy>
  <dcterms:modified xsi:type="dcterms:W3CDTF">2008-11-11T23:28:20Z</dcterms:modified>
  <cp:revision>18</cp:revision>
  <dc:subject/>
  <dc:title>Slide 1</dc:title>
</cp:coreProperties>
</file>